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BFE-E4D4-4C66-AE0A-7DF3A38C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6DF-7DED-4A16-BD53-BAA2B5BA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72D-B2E7-468C-A95D-9553777B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D9B-1A25-4596-B7B4-8C453907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864C-4632-459E-91AD-0C63945C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189-CC5F-4761-AA95-A183355C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DF3B-7291-4AE8-9319-9A89213E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6C94-A026-495E-8499-7A5F61F6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8E24-C6A9-42E1-A750-76A06605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9752-0205-4FC4-A07E-92E0CB22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62CE-0230-4BC7-8D16-43C49DF2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50E-8395-4636-8667-04A537D0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93ED-4116-4DF9-9636-1F8EF699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5DCF-50BA-44A3-A524-FCCFE25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B96F-8237-4B31-9B9A-7C685F39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638F-C633-4CBF-8D9C-84CD53A6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E97B-4193-48C5-9395-F2C4A39D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5C3-3016-496C-9C72-EB4595E8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FCA-25C4-4CF2-BA09-34BD9A49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041-D422-4CEE-986C-E6402E14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7CE-3255-4290-9B2D-78E08226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A93-67F9-451A-BF83-39181E3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F0C-3339-4EBE-93C1-5F1D66D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DD5-B057-4430-A5D7-A7E09C5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850A-F772-42C8-B31E-95BBAA2C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AC23-0439-49EB-9132-DCCD75CEC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2215080" y="126216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187280" y="2492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e N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er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06864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al blood pressure - the force exerted by the blood on the unit surface area of the artery wal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Hg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moves through the system of blood vessels under the influence of the pressure with which the heart, like a pump, pushes blood into th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highest in the aorta and decreases to the arterioles and capillaries, while in the large veins it is almost equal to zero (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factors that affect the value of arterial blood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al activity of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ntric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se performance is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RESISTANCE to blood flow (P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specially resistance in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A normal amount of blood in the circulatory system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836280"/>
            <a:ext cx="7377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echanical capacity of the he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amount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nerve vasoconstrictor tone of arterio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blood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hange in any factor leads to changes in TA (hypotension / hyperten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6880" y="428400"/>
            <a:ext cx="73771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iastolic and systolic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lood pressure value that occurs in the arteries during systole, when the stroke volume is ejected from the left ventricle into the circulation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over the brachial artery during blood pressure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value of blood pressure in the arteries during diastole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brachial art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crease in diastolic pressure is (almost) always due to an increase in P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57120" y="1143000"/>
          <a:ext cx="8215560" cy="444168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d pressure classification for adults (18 years and ol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973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f arter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l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ygmomanometer with cu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lp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scultation method - Korotkov's tones (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Windows User</cp:lastModifiedBy>
  <dcterms:modified xsi:type="dcterms:W3CDTF">2023-10-20T08:52:42Z</dcterms:modified>
  <cp:revision>59</cp:revision>
  <dc:subject/>
  <dc:title>Slide 1</dc:title>
</cp:coreProperties>
</file>